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E8D5-5A43-4CB9-97BC-7C8A49E1C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450C-958B-4207-8709-E4AF5560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8173-7585-4318-B15F-BE35123B5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6BB5-9AED-482A-A190-8475739CE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FC64-FEAD-443F-A4DA-9DF5C0DA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97F3-82ED-46F2-B4DD-9965D183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19E9-6FD6-4062-8C3E-A76317B5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2F00-2A3F-4C32-9610-78199A2B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FA61-0653-40BC-93FC-AAAD12B0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BBA6-7C46-43DB-BB0A-FE448FD5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53C4-E612-4489-915B-28027E75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17D7-CD10-4168-A1E3-CD7ECD55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2C31-BE86-45B4-970A-4BEC50020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s of outpatient depression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 Zamani M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idepress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de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tteriness, restlessness, headache, GI Sx, insomnia, sexual side effects, weight gain (SSR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RI has similar profile to SSRI with additional reports of cardiac effects, impairment of glycemic control and liver failure in preexisting liver dis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idepress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proprion has less weight gain and sexual side eff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rtazapine causes more weight gain than SS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llow-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 patient every 1-2 weeks for the first 8 weeks after initiating thera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Q-9 can be used as a monitoring t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 dose if there is no response after 2 wee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al of a different agent if no response at maximum dose for 8 wee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llow-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al responders can be switched to another SSRI, SNRI or buproprion or augmented with buproprion or buspir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wo SSRI are ineffective then chamge to a different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 d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a first episode medication should be taken for at least 6 to 9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er duration for those with multiple recur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ontinue meds with a 2 to 4 week t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atients with known psychosocial precipitants of depression treatment should continue until these underlying factors are eliminated or adapted 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on, W. and Ciechanowski, 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treatment of depression in adults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 To Date online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pidemi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fetime prevalence of major depression in the U.S. in 2001 was 16.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valence increases to as much as 20% in patients with a major medical ill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rence and Re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one episode the rate of recurrence is 40% over a two year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two episodes the rate is 75% after five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-30% of patients will have incomplete re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itial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 and 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priate lab tests to rule out possible medical et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een for suicidal ide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een for severe depression (significant distress or decrease in function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inguish between unipolar and bipolar depress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ment t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ne item patient health questionaire  (PHQ-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ore above 20 indicates severe de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d to measure response to thera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medical interven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likely to be effective in those with minimal symp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xation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ve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ychotherapy (referral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response after 12 weeks is an indication to start pharmacologic thera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armacologic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to three week lag before symptom relief beg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ly side eff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rvousness, headache, stomach up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rly scheduled office visits during ini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s of treatment are symptom re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armacologic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lear recommendations for specific antidepressants but guides for agent selection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patient has been treated successfully by a particular drug in the p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first degree relative has had positive outcomes with a particular ag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de effect profile is tolerable by the pat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idepress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O Inhibi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cyclic antidepress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 eff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hanced sympathetic activity in the presence of tyramine-containing foods (MAO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y mouth, blurred vision, constipation, urinary retention, tachycardia, confusion, delerium (T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5:16:17Z</dcterms:created>
  <dc:creator>HCMARTINEZ</dc:creator>
  <dc:description/>
  <dc:language>en-US</dc:language>
  <cp:lastModifiedBy>HCMARTINEZ</cp:lastModifiedBy>
  <dcterms:modified xsi:type="dcterms:W3CDTF">2010-03-19T18:14:08Z</dcterms:modified>
  <cp:revision>3</cp:revision>
  <dc:subject/>
  <dc:title>Basics of outpatient depression management</dc:title>
</cp:coreProperties>
</file>